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A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A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A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A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C95E9B-0FB8-458D-ACA7-7DAFE5C9AEE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A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Requests for execut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Stub code getting memory to unpack to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quested with flProtect == PAGE_EXECUTE*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Or writeable and changed later with VirtualProtect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rites to the new execut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Stub code unpacking the execut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ten within an unpacking loop, especially if decrypting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ode running in the new execut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Stub code has jumped to the unpack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ok out!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VirtualAlloc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and VirtualAllocEx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wo minutes for hoo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ictur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heck flProtect for PAGE_EXECUTE*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dwSize contains size of the memory block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Returned value is base address of memory block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reate memory breakpoi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uard page. Windows configures permissions on memory page such that processor generates a page fault exception. Windows checks if guard page and if so, calls handler / debugger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an be used to prevent memory dumps or hinder analys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Unpacking loop writes to allocated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Triggers memory breakpoi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nAppDbg is notified, calls guard_page() by default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ame of WinAppDbg handler can be overridden on a breakpoint-by-breakpoint basis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xception typ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EXCEPTION_WRITE_FAUL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l guard page exceptions use the same handler, so need to use exception type to determine why the guard page was triggered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xception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Instruction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Fault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Memory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Stub code calls the unpack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emory breakpoint h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xception typ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CEPTION_EXECUTE_FAUL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xception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struction fetch address, so the address of the instruction that the processor just tried to execute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emory breakpoint handl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st of the work. It sees the memory written to, and unpacked code execut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Original entry poi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Exception 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Write to log fi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Unpack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emory breakpoint triggered, so code must? be runn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Read process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Write to a fi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mo will show what can be done with th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ing that's nice, but I reckon I can do more..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Finding the unpacking loop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re for the challenge rather than usefuln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ing decompression / decryption API usag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iced malware samples RtlDecompressBuffer() and CryptDecrypt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ing process hollow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fferent name. Will go in to th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Thinking about logg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you log and how you log it can make log data extremely useful, or really annoy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isco PIX log data, Firewall-1 exported log data, Windows Event Viewer!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nable single-stepp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Use exception address to trace execu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Look for backward jump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op instruction, conditional jump, uncond jump with exit condition tested elsewher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Exception address is less than previous valu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Disassemble between the highest and lowest exception addresses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inly because you like seeing assembly languag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RtlDecompressBuffer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compressedBuffer, UncompressedBufferSiz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pressedBuffer, CompressedBufferSiz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CryptDecrypt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bData, pdwDataLe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bData buffer reused, so need to do pre and post hook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cess hollowing different name?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reate a new proc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CREATE_SUSPEND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Usually innocent loo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Overwrite the process'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sually section by section as PE sections tend to be aligned on memory pages, file contents aren'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Resume the proc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sumeThread() with handle from CreateProcess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 can we capture process hollowing?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CreateProcess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Check dwCreationFlags for CREATE_SUSPEND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WriteProcessMemory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Write memory buffer to a fi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ok ResumeThread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Log to a file, mainly for information or to enable analyst to set a breakpoint in debugger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 more functionality to start tracing the remote thread (injected code)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68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arly interest in virus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Your PC is now ston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0" lang="en-AU" sz="20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March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sassembling with debug.ex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layed both the cat and the mous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Varied experienc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mote Access BBS file list updat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allenge response UNIX scrip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isco IP Phone CTL file deletion and test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d count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lot of UNIX admi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rains tim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w have malware and operating systems evolved over the last 25 years?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lit honeyne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ed of capture v speed of analys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buggers improved but manual analysis slow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scovered some auto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w to help the infosec communit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uman read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Human can work out what happen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achine read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Other software can work out what happen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Enables further auto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asier to import in to SIEMs and log processing system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Sortable date forma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st significant to least significant (big endian), yyyy-mm-dd hh:mm:ss enables any sorting tool like |sor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One line per eve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ves having to read multiple lines and combine them to figure out what is going 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6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e file infor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e registry infor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pture network infor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Automatically generate an IDA Pro scrip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packing loop address, address of instruction that calls original entry point, original entry point address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ake it a bit more professional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move (script) debugging outpu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dularise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 more featur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able features to be turned on and off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VirtualAllocEx() called from within VirtualAlloc(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irtualAlloc() calls VirtualAllocEx() with hProcess == -1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jig script to hook VirtualAlloc() calls separatel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Triggering our own memory breakpoint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ying to read modified process memory while we had an active PAGE_GUARD set on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nAppDbg did sanity che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sulted in read failure with ERROR_INVALID_ADDRES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n't disable tracing from within single-step handl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 breakpoint on exception address and disable it in breakpoint handl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1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hat is pa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'm going to talk about what unpacking actually 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indows Debugging API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'm using to automate unpa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inAppDb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Why automate unpa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ow can we automate unpac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my unpacking scrip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neynet binaries looked simila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locating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riting to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unning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 a known packer, at least not to m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tails of how I scripted some unpacking task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ompress an executable fi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Unpack it at runtim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lf-extracting archives, like zip fil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Needs to include code to unpack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nal executable file looks like th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inders analys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bfuscates strings, URLs, import names, etc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nd time analysing unpacker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Functions and event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ttach to a process, create breakpoints, call back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art of the standard Windows API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 need to install extra softwar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asily code your own debugg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 in Python – winappdbg nex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vent loop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ilar to Windows GUI application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ython wrapp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ses ctyp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reate breakpoint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API hook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Handle debug event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reakpoints, exceptions, process / thread creation, module load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Your script is the debugger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You can write a debugger in Pyth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reated by Mario Vila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de on sourceforge, he has a blog (breakingcode on wordpress) and a github accoun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51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Speed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Have you seen my honeynet capture rate!?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neynet capturing, debugging slow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Accuracy (?)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ript generates report, more accurate than human copying information in to a repor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lies on accuracy of algorithms though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nable further automatio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eed output in to SIEM or database help automate further analysi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ript multiple runs of the unpacker compare outpu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un unpacker under Cuckoo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Enable analysts to work on other problem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utomate other analysis steps, or work on manual task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Malware wants to run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rocessor needs correct opcod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se program won't do as it should and / or crash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Typical packed executabl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Needs stub code to unpack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compresses / decrypts code so processor can run i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Catch it between unpacking and running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de is unpacked.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Processor requir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rrect opcodes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gram will crash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ecut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Stub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Reads compress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Writes uncompressed code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 - Requires writeable memory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E52-E729-41AF-ABFD-9E8C8E45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014-50AE-4670-BE45-8A60A6BA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517-F177-4E39-B553-80BD5C39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823-12A8-4E82-BCAC-36B682D2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8CE-985D-4F83-8342-D19AA7BB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BBE-C1BB-4898-8B01-8CA087E1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471-8ECD-48AF-8E8A-2FE589FD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1D3-EEBA-45D4-9955-23714745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91F-C0FF-4138-9C3A-9F92D93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243-20D3-40E4-AB3C-85647210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25F-3A6F-45C7-9BFF-93E0150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7EA-3F17-4744-A925-CC00FEDA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AU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A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A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A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A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A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A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7A3A4C-92F8-42EE-8F95-79BE02DB7A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AU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alwaremusings.com/2013/02/26/automated-unpacking-a-behaviour-based-approach/" TargetMode="External"/><Relationship Id="rId2" Type="http://schemas.openxmlformats.org/officeDocument/2006/relationships/hyperlink" Target="http://malwaremusings.com/2014/09/16/beyond-automated-unpacking-extracting-decrypteddecompressed-memory-blocks/" TargetMode="External"/><Relationship Id="rId3" Type="http://schemas.openxmlformats.org/officeDocument/2006/relationships/hyperlink" Target="http://malwaremusings.com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utomated Malware Analysis</a:t>
            </a: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 Behavioural Approach to Automated Unpack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uxcon 2015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arl Dent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to Look Fo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4000"/>
          </a:bodyPr>
          <a:p>
            <a:pPr marL="319680" indent="-239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quests for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39360" indent="-239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ub code getting memory to unpack to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19680" indent="-239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es to new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39360" indent="-239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ub code unpacking the executab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19680" indent="-239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de running in new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39360" indent="-239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ub code has jumped to the unpacked executab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51600" y="227052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Stub code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rtualAlloc(...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25360" y="2592000"/>
            <a:ext cx="2124000" cy="153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kernel32.dll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rtualAlloc(...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turn base_addr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25600" y="3240000"/>
            <a:ext cx="630000" cy="0"/>
          </a:xfrm>
          <a:custGeom>
            <a:avLst/>
            <a:gdLst/>
            <a:ahLst/>
            <a:rect l="0" t="0" r="r" b="b"/>
            <a:pathLst>
              <a:path fill="none" w="1750" h="0">
                <a:moveTo>
                  <a:pt x="0" y="0"/>
                </a:moveTo>
                <a:lnTo>
                  <a:pt x="1750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-45000" bIns="-45000" anchor="ctr">
            <a:noAutofit/>
          </a:bodyPr>
          <a:p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alls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28000" y="3888000"/>
            <a:ext cx="0" cy="471600"/>
          </a:xfrm>
          <a:custGeom>
            <a:avLst/>
            <a:gdLst/>
            <a:ahLst/>
            <a:rect l="0" t="0" r="r" b="b"/>
            <a:pathLst>
              <a:path fill="none" w="0" h="1310">
                <a:moveTo>
                  <a:pt x="0" y="0"/>
                </a:moveTo>
                <a:lnTo>
                  <a:pt x="0" y="131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51600" y="360000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packing loop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25600" y="4752000"/>
            <a:ext cx="900000" cy="0"/>
          </a:xfrm>
          <a:custGeom>
            <a:avLst/>
            <a:gdLst/>
            <a:ahLst/>
            <a:rect l="0" t="0" r="r" b="b"/>
            <a:pathLst>
              <a:path fill="none" w="2500" h="0">
                <a:moveTo>
                  <a:pt x="0" y="0"/>
                </a:moveTo>
                <a:lnTo>
                  <a:pt x="2500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-45000" bIns="-45000" anchor="ctr">
            <a:noAutofit/>
          </a:bodyPr>
          <a:p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s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51600" y="496800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un unpack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25600" y="5058720"/>
            <a:ext cx="890280" cy="1094760"/>
          </a:xfrm>
          <a:custGeom>
            <a:avLst/>
            <a:gdLst/>
            <a:ahLst/>
            <a:rect l="0" t="0" r="r" b="b"/>
            <a:pathLst>
              <a:path fill="none" w="2473" h="3041">
                <a:moveTo>
                  <a:pt x="0" y="3041"/>
                </a:moveTo>
                <a:lnTo>
                  <a:pt x="2473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alls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tecting Requests for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9000"/>
          </a:bodyPr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VirtualAlloc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heck flProtec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559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GE_EXECUTE*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wSize contains size of memory block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turned value is base address of memory block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2559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reate memory breakpoin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559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wSiz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559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turn addres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6240" y="176904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Stub code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rtualAlloc(...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75600" y="3312000"/>
            <a:ext cx="2304000" cy="153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kernel32.dll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rtualAlloc(...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turn base_addr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e_VirtualAlloc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75600" y="507348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st_VirtualAlloc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0240" y="2736000"/>
            <a:ext cx="495360" cy="0"/>
          </a:xfrm>
          <a:custGeom>
            <a:avLst/>
            <a:gdLst/>
            <a:ahLst/>
            <a:rect l="0" t="0" r="r" b="b"/>
            <a:pathLst>
              <a:path fill="none" w="1376" h="0">
                <a:moveTo>
                  <a:pt x="0" y="0"/>
                </a:moveTo>
                <a:lnTo>
                  <a:pt x="1376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-45000" bIns="-45000" anchor="ctr">
            <a:noAutofit/>
          </a:bodyPr>
          <a:p>
            <a:pPr algn="ctr"/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00" y="3096000"/>
            <a:ext cx="0" cy="216000"/>
          </a:xfrm>
          <a:custGeom>
            <a:avLst/>
            <a:gdLst/>
            <a:ahLst/>
            <a:rect l="0" t="0" r="r" b="b"/>
            <a:pathLst>
              <a:path fill="none" w="0" h="600">
                <a:moveTo>
                  <a:pt x="0" y="0"/>
                </a:moveTo>
                <a:lnTo>
                  <a:pt x="0" y="60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2640" y="4842000"/>
            <a:ext cx="0" cy="216000"/>
          </a:xfrm>
          <a:custGeom>
            <a:avLst/>
            <a:gdLst/>
            <a:ahLst/>
            <a:rect l="0" t="0" r="r" b="b"/>
            <a:pathLst>
              <a:path fill="none" w="0" h="600">
                <a:moveTo>
                  <a:pt x="0" y="0"/>
                </a:moveTo>
                <a:lnTo>
                  <a:pt x="0" y="60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6960" y="3021840"/>
            <a:ext cx="2168640" cy="3131640"/>
          </a:xfrm>
          <a:custGeom>
            <a:avLst/>
            <a:gdLst/>
            <a:ahLst/>
            <a:rect l="0" t="0" r="r" b="b"/>
            <a:pathLst>
              <a:path fill="none" w="6024" h="8699">
                <a:moveTo>
                  <a:pt x="6024" y="8699"/>
                </a:moveTo>
                <a:lnTo>
                  <a:pt x="0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tecting Writes to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0000"/>
          </a:bodyPr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ing loop writes to allocated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iggers memory breakpoint 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ception typ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691200" indent="-2592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CEPTION_WRITE_FAULT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ception addr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2" marL="1036800" indent="-2304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struction address</a:t>
            </a:r>
            <a:endParaRPr b="0" lang="en-AU" sz="2400" spc="-1" strike="noStrike">
              <a:solidFill>
                <a:srgbClr val="ffffff"/>
              </a:solidFill>
              <a:latin typeface="Arial"/>
            </a:endParaRPr>
          </a:p>
          <a:p>
            <a:pPr marL="345600" indent="-2592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ult addr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2" marL="1036800" indent="-2304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stination address</a:t>
            </a:r>
            <a:endParaRPr b="0" lang="en-A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2880000"/>
            <a:ext cx="1674000" cy="208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packing loop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20920" y="4633920"/>
            <a:ext cx="903600" cy="360000"/>
          </a:xfrm>
          <a:custGeom>
            <a:avLst/>
            <a:gdLst/>
            <a:ahLst/>
            <a:rect l="0" t="0" r="r" b="b"/>
            <a:pathLst>
              <a:path fill="none" w="2510" h="1000">
                <a:moveTo>
                  <a:pt x="0" y="0"/>
                </a:moveTo>
                <a:lnTo>
                  <a:pt x="2510" y="100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47960" y="4974840"/>
            <a:ext cx="3980160" cy="750960"/>
          </a:xfrm>
          <a:custGeom>
            <a:avLst/>
            <a:gdLst/>
            <a:ahLst/>
            <a:rect l="0" t="0" r="r" b="b"/>
            <a:pathLst>
              <a:path fill="none" w="11056" h="2086">
                <a:moveTo>
                  <a:pt x="0" y="2086"/>
                </a:moveTo>
                <a:lnTo>
                  <a:pt x="11056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3440" y="4648680"/>
            <a:ext cx="1396440" cy="245160"/>
          </a:xfrm>
          <a:custGeom>
            <a:avLst/>
            <a:gdLst/>
            <a:ahLst/>
            <a:rect l="0" t="0" r="r" b="b"/>
            <a:pathLst>
              <a:path fill="none" w="3879" h="681">
                <a:moveTo>
                  <a:pt x="0" y="681"/>
                </a:moveTo>
                <a:lnTo>
                  <a:pt x="3879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uard_page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tecting Execution from Executable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7000"/>
          </a:bodyPr>
          <a:p>
            <a:pPr marL="419040" indent="-3142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b code calls unpacked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mory breakpoint hi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ception typ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1428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CEPTION_EXECUTE_FAULT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142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ception addr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2" marL="1257120" indent="-27936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struction address</a:t>
            </a:r>
            <a:endParaRPr b="0" lang="en-A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51600" y="4968000"/>
            <a:ext cx="167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un unpack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25600" y="5058720"/>
            <a:ext cx="890280" cy="1094760"/>
          </a:xfrm>
          <a:custGeom>
            <a:avLst/>
            <a:gdLst/>
            <a:ahLst/>
            <a:rect l="0" t="0" r="r" b="b"/>
            <a:pathLst>
              <a:path fill="none" w="2473" h="3041">
                <a:moveTo>
                  <a:pt x="0" y="3041"/>
                </a:moveTo>
                <a:lnTo>
                  <a:pt x="2473" y="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alls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19080" y="5080320"/>
            <a:ext cx="3211920" cy="810720"/>
          </a:xfrm>
          <a:custGeom>
            <a:avLst/>
            <a:gdLst/>
            <a:ahLst/>
            <a:rect l="0" t="0" r="r" b="b"/>
            <a:pathLst>
              <a:path fill="none" w="8922" h="2252">
                <a:moveTo>
                  <a:pt x="0" y="2252"/>
                </a:moveTo>
                <a:lnTo>
                  <a:pt x="8922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uard_page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the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427680" indent="-320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mory breakpoint handle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-320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riginal entry poin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55360" indent="-320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ception addres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55360" indent="-320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 to a log fi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32076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ed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55360" indent="-320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ad process memory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55360" indent="-32076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 to a fi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uard_page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 {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52680" y="3280680"/>
            <a:ext cx="2160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g file</a:t>
            </a:r>
            <a:br>
              <a:rPr sz="1800"/>
            </a:b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ception address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52680" y="5040000"/>
            <a:ext cx="2160000" cy="72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mory dump file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lcode() 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32320" y="3720240"/>
            <a:ext cx="3290040" cy="1296000"/>
          </a:xfrm>
          <a:custGeom>
            <a:avLst/>
            <a:gdLst/>
            <a:ahLst/>
            <a:rect l="0" t="0" r="r" b="b"/>
            <a:pathLst>
              <a:path fill="none" w="9139" h="3600">
                <a:moveTo>
                  <a:pt x="0" y="0"/>
                </a:moveTo>
                <a:lnTo>
                  <a:pt x="9139" y="360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2680" y="4194000"/>
            <a:ext cx="383040" cy="816120"/>
          </a:xfrm>
          <a:custGeom>
            <a:avLst/>
            <a:gdLst/>
            <a:ahLst/>
            <a:rect l="0" t="0" r="r" b="b"/>
            <a:pathLst>
              <a:path fill="none" w="1064" h="2267">
                <a:moveTo>
                  <a:pt x="0" y="0"/>
                </a:moveTo>
                <a:lnTo>
                  <a:pt x="1064" y="2267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6" idx="0"/>
            <a:endCxn id="125" idx="2"/>
          </p:cNvCxnSpPr>
          <p:nvPr/>
        </p:nvCxnSpPr>
        <p:spPr>
          <a:xfrm flipH="1" flipV="1">
            <a:off x="8427600" y="3096000"/>
            <a:ext cx="225360" cy="126396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  <p:cxnSp>
        <p:nvCxnSpPr>
          <p:cNvPr id="132" name=""/>
          <p:cNvCxnSpPr>
            <a:stCxn id="125" idx="2"/>
            <a:endCxn id="129" idx="2"/>
          </p:cNvCxnSpPr>
          <p:nvPr/>
        </p:nvCxnSpPr>
        <p:spPr>
          <a:xfrm flipH="1">
            <a:off x="6077160" y="3096000"/>
            <a:ext cx="2350800" cy="192060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  <p:cxnSp>
        <p:nvCxnSpPr>
          <p:cNvPr id="133" name=""/>
          <p:cNvCxnSpPr>
            <a:stCxn id="125" idx="1"/>
            <a:endCxn id="127" idx="0"/>
          </p:cNvCxnSpPr>
          <p:nvPr/>
        </p:nvCxnSpPr>
        <p:spPr>
          <a:xfrm flipH="1">
            <a:off x="6232680" y="2556000"/>
            <a:ext cx="1043280" cy="72504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... but wait, there's more...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nding the unpacking loo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decompression / decryption API usag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process hollow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nk about logg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nding the Unpacking Loo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marL="397440" indent="-2980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able single-stepp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94880" indent="-29808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 exception address to trace execution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97440" indent="-2980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ook for backward jum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94880" indent="-29808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ception address is less than previous valu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97440" indent="-2980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sassemble between the two addresse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7440" indent="-29808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oesn't always work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51600" y="2880000"/>
            <a:ext cx="1674000" cy="208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packing loop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packme: 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mp unpackm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75600" y="2016000"/>
            <a:ext cx="23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ngle_step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22000" y="4608000"/>
            <a:ext cx="903600" cy="360000"/>
          </a:xfrm>
          <a:custGeom>
            <a:avLst/>
            <a:gdLst/>
            <a:ahLst/>
            <a:rect l="0" t="0" r="r" b="b"/>
            <a:pathLst>
              <a:path fill="none" w="2510" h="1000">
                <a:moveTo>
                  <a:pt x="0" y="0"/>
                </a:moveTo>
                <a:lnTo>
                  <a:pt x="2510" y="1000"/>
                </a:lnTo>
              </a:path>
            </a:pathLst>
          </a:custGeom>
          <a:ln w="0">
            <a:solidFill>
              <a:srgbClr val="ffffff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A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43360" y="2532600"/>
            <a:ext cx="409680" cy="1274400"/>
          </a:xfrm>
          <a:custGeom>
            <a:avLst/>
            <a:gdLst/>
            <a:ahLst/>
            <a:rect l="0" t="0" r="r" b="b"/>
            <a:pathLst>
              <a:path fill="none" w="1138" h="3540">
                <a:moveTo>
                  <a:pt x="0" y="0"/>
                </a:moveTo>
                <a:lnTo>
                  <a:pt x="1138" y="354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57400" y="2532600"/>
            <a:ext cx="379800" cy="1830240"/>
          </a:xfrm>
          <a:custGeom>
            <a:avLst/>
            <a:gdLst/>
            <a:ahLst/>
            <a:rect l="0" t="0" r="r" b="b"/>
            <a:pathLst>
              <a:path fill="none" w="1055" h="5084">
                <a:moveTo>
                  <a:pt x="0" y="0"/>
                </a:moveTo>
                <a:lnTo>
                  <a:pt x="1055" y="5084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58120" y="2530800"/>
            <a:ext cx="374760" cy="2094120"/>
          </a:xfrm>
          <a:custGeom>
            <a:avLst/>
            <a:gdLst/>
            <a:ahLst/>
            <a:rect l="0" t="0" r="r" b="b"/>
            <a:pathLst>
              <a:path fill="none" w="1041" h="5817">
                <a:moveTo>
                  <a:pt x="0" y="0"/>
                </a:moveTo>
                <a:lnTo>
                  <a:pt x="1041" y="5817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61000" y="2510640"/>
            <a:ext cx="378360" cy="2388600"/>
          </a:xfrm>
          <a:custGeom>
            <a:avLst/>
            <a:gdLst/>
            <a:ahLst/>
            <a:rect l="0" t="0" r="r" b="b"/>
            <a:pathLst>
              <a:path fill="none" w="1051" h="6635">
                <a:moveTo>
                  <a:pt x="0" y="0"/>
                </a:moveTo>
                <a:lnTo>
                  <a:pt x="1051" y="6635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0000" y="4868640"/>
            <a:ext cx="459360" cy="459360"/>
          </a:xfrm>
          <a:custGeom>
            <a:avLst/>
            <a:gdLst/>
            <a:ahLst/>
            <a:rect l="0" t="0" r="r" b="b"/>
            <a:pathLst>
              <a:path fill="none" w="1276" h="1276">
                <a:moveTo>
                  <a:pt x="0" y="1276"/>
                </a:moveTo>
                <a:lnTo>
                  <a:pt x="1276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0000" y="3829680"/>
            <a:ext cx="472320" cy="1498320"/>
          </a:xfrm>
          <a:custGeom>
            <a:avLst/>
            <a:gdLst/>
            <a:ahLst/>
            <a:rect l="0" t="0" r="r" b="b"/>
            <a:pathLst>
              <a:path fill="none" w="1312" h="4162">
                <a:moveTo>
                  <a:pt x="0" y="4162"/>
                </a:moveTo>
                <a:lnTo>
                  <a:pt x="1312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set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Decompression / Decryption API Usag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RtlDecompressBuffer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rameters specify addresses and size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CryptDecrypt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rameters specify address and siz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cess Hollow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reate a new proc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_SUSPENDED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ually innocent looking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verwrite the process' memory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sume the proces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51600" y="1767600"/>
            <a:ext cx="2664000" cy="154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Malicious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de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Process(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51600" y="4968360"/>
            <a:ext cx="266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bedded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Z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51600" y="3315600"/>
            <a:ext cx="2664000" cy="11484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ProcessMemory(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...,lpBaseAddres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lpBuffer,...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5600" y="3312000"/>
            <a:ext cx="1314000" cy="153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lorer.exe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51600" y="4464000"/>
            <a:ext cx="2664000" cy="50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sumeThread(hThread);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57360" y="4014360"/>
            <a:ext cx="299520" cy="2193120"/>
          </a:xfrm>
          <a:custGeom>
            <a:avLst/>
            <a:gdLst/>
            <a:ahLst/>
            <a:rect l="0" t="0" r="r" b="b"/>
            <a:pathLst>
              <a:path fill="none" w="832" h="6092">
                <a:moveTo>
                  <a:pt x="0" y="6092"/>
                </a:moveTo>
                <a:lnTo>
                  <a:pt x="832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37520" y="3315600"/>
            <a:ext cx="927720" cy="451440"/>
          </a:xfrm>
          <a:custGeom>
            <a:avLst/>
            <a:gdLst/>
            <a:ahLst/>
            <a:rect l="0" t="0" r="r" b="b"/>
            <a:pathLst>
              <a:path fill="none" w="2577" h="1254">
                <a:moveTo>
                  <a:pt x="0" y="1254"/>
                </a:moveTo>
                <a:lnTo>
                  <a:pt x="2577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6880" y="4104000"/>
            <a:ext cx="756720" cy="510840"/>
          </a:xfrm>
          <a:custGeom>
            <a:avLst/>
            <a:gdLst/>
            <a:ahLst/>
            <a:rect l="0" t="0" r="r" b="b"/>
            <a:pathLst>
              <a:path fill="none" w="2102" h="1419">
                <a:moveTo>
                  <a:pt x="0" y="1419"/>
                </a:moveTo>
                <a:lnTo>
                  <a:pt x="2102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ing Process Hollow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0000"/>
          </a:bodyPr>
          <a:p>
            <a:pPr marL="388800" indent="-2916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CreateProcess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916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heck dwCreationFlag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77600" indent="-2916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_SUSPENDED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916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WriteProcessMemory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77600" indent="-2916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 memory buffer to a fi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916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ok ResumeThread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777600" indent="-2916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 to a log file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5600" y="2026800"/>
            <a:ext cx="3204000" cy="1080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 WinAppDbg script 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st_WriteProcessMemory(...):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5600" y="4968000"/>
            <a:ext cx="131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ump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51600" y="4968360"/>
            <a:ext cx="2664000" cy="136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bedded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Z...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53760" y="3104640"/>
            <a:ext cx="2312640" cy="3070080"/>
          </a:xfrm>
          <a:custGeom>
            <a:avLst/>
            <a:gdLst/>
            <a:ahLst/>
            <a:rect l="0" t="0" r="r" b="b"/>
            <a:pathLst>
              <a:path fill="none" w="6424" h="8528">
                <a:moveTo>
                  <a:pt x="0" y="8528"/>
                </a:moveTo>
                <a:lnTo>
                  <a:pt x="6424" y="0"/>
                </a:lnTo>
              </a:path>
            </a:pathLst>
          </a:custGeom>
          <a:ln w="0">
            <a:solidFill>
              <a:srgbClr val="ff0000"/>
            </a:solidFill>
            <a:headEnd len="med" type="oval" w="med"/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20800" y="3106800"/>
            <a:ext cx="0" cy="1861200"/>
          </a:xfrm>
          <a:custGeom>
            <a:avLst/>
            <a:gdLst/>
            <a:ahLst/>
            <a:rect l="0" t="0" r="r" b="b"/>
            <a:pathLst>
              <a:path fill="none" w="0" h="5170">
                <a:moveTo>
                  <a:pt x="0" y="0"/>
                </a:moveTo>
                <a:lnTo>
                  <a:pt x="0" y="5170"/>
                </a:lnTo>
              </a:path>
            </a:pathLst>
          </a:custGeom>
          <a:ln w="0">
            <a:solidFill>
              <a:srgbClr val="ff0000"/>
            </a:solidFill>
            <a:tailEnd len="med" type="triangle" w="med"/>
          </a:ln>
        </p:spPr>
        <p:txBody>
          <a:bodyPr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.about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lware analysis hobbyis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arted full-time work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laying catch-u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can I do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nk About Logg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 readabl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r can work out what happened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chine readabl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ther software can work out what happened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nables further automation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rtable date forma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ne line per even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Else Can We Do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e file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e registry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pture network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0">
              <a:spcBef>
                <a:spcPts val="1417"/>
              </a:spcBef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utomatically generate an IDA Pro scrip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ke it a bit more professional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ddress of VirtualAllocEx() calls was within kernel32.dll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iggering our own memory breakpoint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n't disable tracing from within single-step handle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Demonstrations</a:t>
            </a:r>
            <a:endParaRPr b="0" lang="en-A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marL="259200" indent="-1944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2c9c75be754eddfb7673a5bffcadd042.ex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npacking loop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tlDecompressBuffer()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cess injection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259200" indent="-1944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4456a22b5c87ea6ad107023ce6c75d5.ex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259200" indent="-1944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0677f88a7eaedaa3ca13a5926465fc50.ex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o unpacking loop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lls CryptDecrypt()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259200" indent="-1944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fo_61937.ex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re recent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npacking loop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518400" indent="-1944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ts of exception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04360" y="176940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endParaRPr b="0" lang="en-AU" sz="3200" spc="-1" strike="noStrike">
              <a:solidFill>
                <a:srgbClr val="ffffff"/>
              </a:solidFill>
              <a:latin typeface="Arial"/>
              <a:ea typeface="Droid Sans Fallb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o rule to make target 'sense'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hlinkClick r:id="rId1"/>
              </a:rPr>
              <a:t>http://malwaremusings.com/2013/02/26/automated-unpacking-a-behaviour-based-approach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hlinkClick r:id="rId2"/>
              </a:rPr>
              <a:t>http://malwaremusings.com/2014/09/16/beyond-automated-unpacking-extracting-decrypteddecompressed-memory-blocks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ther works, musings, and rambling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hlinkClick r:id="rId3"/>
              </a:rPr>
              <a:t>http://malwaremusings.com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ttp://github.com/malwaremusings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920000" y="504252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s.about(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is 'packing'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ndows Debugging API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nAppDb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y automate unpacking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can we automate unpacking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y unpacking script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is Packing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pressing / encrypting an executabl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ed at runtim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volves stub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nders analysi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1600" y="2271600"/>
            <a:ext cx="4428000" cy="100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b code (unpacker)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51600" y="1767600"/>
            <a:ext cx="4428000" cy="50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 Header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51600" y="3279600"/>
            <a:ext cx="4428000" cy="287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ressed / encrypted 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ndows Debugging API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unctions and event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art of the standard Windows API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asily code your own debugge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vent loop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nAppDb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ython wrapper for the Debugging API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reate breakpoint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PI hook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andle debug event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our script is the debugger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reated by Mario Vila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ttp://winappdbg.sourceforge.net/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y Automate Unpack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ve you seen my honeynet capture rate!?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ccuracy (?)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able further automatio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rees analysts to work on other problem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Can We Automate Unpacking?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lware wants to run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cessor needs correct opcode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ypical packed executabl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eeds stub code to unpack it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marL="393120" indent="-29484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tch it between unpacking and running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51600" y="2271600"/>
            <a:ext cx="2988000" cy="100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b code (unpacker)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51600" y="1767600"/>
            <a:ext cx="2988000" cy="50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 Header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51600" y="3279600"/>
            <a:ext cx="2988000" cy="107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ressed / encryp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8080" y="4720680"/>
            <a:ext cx="2988000" cy="143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compressed / decryp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8" idx="3"/>
            <a:endCxn id="71" idx="3"/>
          </p:cNvCxnSpPr>
          <p:nvPr/>
        </p:nvCxnSpPr>
        <p:spPr>
          <a:xfrm>
            <a:off x="8139600" y="2775600"/>
            <a:ext cx="6840" cy="2661840"/>
          </a:xfrm>
          <a:prstGeom prst="bentConnector3">
            <a:avLst>
              <a:gd name="adj1" fmla="val 2883333"/>
            </a:avLst>
          </a:prstGeom>
          <a:ln w="0">
            <a:solidFill>
              <a:srgbClr val="ffffff"/>
            </a:solidFill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8128800" y="5437080"/>
            <a:ext cx="1443600" cy="360"/>
          </a:xfrm>
          <a:custGeom>
            <a:avLst/>
            <a:gdLst/>
            <a:ahLst/>
            <a:rect l="0" t="0" r="r" b="b"/>
            <a:pathLst>
              <a:path fill="none" w="4010" h="1">
                <a:moveTo>
                  <a:pt x="0" y="0"/>
                </a:moveTo>
                <a:lnTo>
                  <a:pt x="4010" y="1"/>
                </a:lnTo>
              </a:path>
            </a:pathLst>
          </a:custGeom>
          <a:ln w="3600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txBody>
          <a:bodyPr lIns="108000" rIns="108000" tIns="-62640" bIns="-64440" anchor="t">
            <a:noAutofit/>
          </a:bodyPr>
          <a:p>
            <a:pPr algn="ctr"/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Breakpoint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unning Packed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000" y="176796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3000"/>
          </a:bodyPr>
          <a:p>
            <a:pPr marL="401760" indent="-30132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cessor requires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rrect opcodes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ecutable memory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30132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b code</a:t>
            </a: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ads compressed data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rites uncompressed data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  <a:p>
            <a:pPr lvl="1" marL="803520" indent="-30132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quires writeable memory</a:t>
            </a:r>
            <a:endParaRPr b="0" lang="en-A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51600" y="2270520"/>
            <a:ext cx="4428000" cy="1008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b code (unpacker)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51600" y="435852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ressed /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25600" y="4359600"/>
            <a:ext cx="1854000" cy="1792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/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compressed /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crypted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A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8" idx="0"/>
            <a:endCxn id="77" idx="2"/>
          </p:cNvCxnSpPr>
          <p:nvPr/>
        </p:nvCxnSpPr>
        <p:spPr>
          <a:xfrm flipV="1">
            <a:off x="6078600" y="3278520"/>
            <a:ext cx="1287360" cy="108036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  <p:cxnSp>
        <p:nvCxnSpPr>
          <p:cNvPr id="81" name=""/>
          <p:cNvCxnSpPr>
            <a:stCxn id="77" idx="2"/>
            <a:endCxn id="79" idx="0"/>
          </p:cNvCxnSpPr>
          <p:nvPr/>
        </p:nvCxnSpPr>
        <p:spPr>
          <a:xfrm>
            <a:off x="7365600" y="3278520"/>
            <a:ext cx="1287360" cy="1081440"/>
          </a:xfrm>
          <a:prstGeom prst="straightConnector1">
            <a:avLst/>
          </a:prstGeom>
          <a:ln w="0">
            <a:solidFill>
              <a:srgbClr val="ffffff"/>
            </a:solidFill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0:27:07Z</dcterms:created>
  <dc:creator/>
  <dc:description/>
  <dc:language>en-US</dc:language>
  <cp:lastModifiedBy/>
  <dcterms:modified xsi:type="dcterms:W3CDTF">2015-10-24T08:28:40Z</dcterms:modified>
  <cp:revision>134</cp:revision>
  <dc:subject/>
  <dc:title/>
</cp:coreProperties>
</file>