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FA4D9-0BCF-4A88-848F-FC13BFFE0BE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quests for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getting memory to unpack to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quested with flProtect == PAGE_EXECUTE*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Or writeable and changed later with VirtualProtec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rites to the new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unpacking the execut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ten within an unpacking loop, especially if decrypting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ode running in the new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has jumped to the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ok out!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VirtualAlloc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and VirtualAllocEx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o minutes for h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ictu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heck flProtect for PAGE_EXECUTE*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dwSize contains size of the memory block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turned value is base address of memory block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memory break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uard page. Windows configures permissions on memory page such that processor generates a page fault exception. Windows checks if guard page and if so, calls handler / debugger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an be used to prevent memory dumps or hinder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ing loop writes to allocated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riggers memory break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AppDbg is notified, calls guard_page() by default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me of WinAppDbg handler can be overridden on a breakpoint-by-breakpoint basi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typ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XCEPTION_WRITE_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 guard page exceptions use the same handler, so need to use exception type to determine why the guard page was triggered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Instruc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ault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Memory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tub code calls the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emory breakpoint h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typ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CEPTION_EXECUTE_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truction fetch address, so the address of the instruction that the processor just tried to execute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emory breakpoint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st of the work. It sees the memory written to, and unpacked code execut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riginal entry 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to log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mory breakpoint triggered, so code must? be runn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ad process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to a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mo will show what can be done with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ing that's nice, but I reckon I can do more..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inding the unpacking loo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for the challenge rather than usefuln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ing decompression / decryption API usag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iced malware samples RtlDecompressBuffer() and CryptDecryp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ing process hollow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fferent name. Will go in to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hinking about logg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you log and how you log it can make log data extremely useful, or really annoy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sco PIX log data, Firewall-1 exported log data, Windows Event Viewer!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single-stepp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Use exception address to trace execu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Look for backward jum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op instruction, conditional jump, uncond jump with exit condition tested elsewher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Exception address is less than previous valu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Disassemble between the highest and lowest exception addresse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ly because you like seeing assembly languag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RtlDecompressBuffer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compressedBuffer, UncompressedBufferSiz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pressedBuffer, CompressedBufferSiz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CryptDecryp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bData, pdwDataLe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bData buffer reused, so need to do pre and post hoo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hollowing different name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a new proc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CREATE_SUSPEND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Usually innocent l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verwrite the process'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ually section by section as PE sections tend to be aligned on memory pages, file contents aren'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sume the proc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meThread() with handle from CreateProcess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 can we capture process hollowing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CreateProcess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Check dwCreationFlags for CREATE_SUSPEND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WriteProcessMemory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memory buffer to a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ResumeThread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Log to a file, mainly for information or to enable analyst to set a breakpoint in debugger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 more functionality to start tracing the remote thread (injected code)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68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arly interest in virus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r PC is now sto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AU" sz="20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Marc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assembling with debug.ex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layed both the cat and the mous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Varied experienc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mote Access BBS file list upda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allenge response UNIX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sco IP Phone CTL file deletion and tes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d coun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lot of UNIX admi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rains ti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have malware and operating systems evolved over the last 25 years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lit honeyne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ed of capture v speed of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buggers improved but manual analysis slow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covered some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to help the infosec communit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uman read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Human can work out what happe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chine read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Other software can work out what happe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nables further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asier to import in to SIEMs and log processing system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ortable date forma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st significant to least significant (big endian), yyyy-mm-dd hh:mm:ss enables any sorting tool like |sor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ne line per eve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ves having to read multiple lines and combine them to figure out what is going 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file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registry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network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utomatically generate an IDA Pro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packing loop address, address of instruction that calls original entry point, original entry point addres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ke it a bit more professional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move (script) debugging outpu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dularise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 more featu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able features to be turned on and off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VirtualAllocEx() called from within VirtualAlloc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rtualAlloc() calls VirtualAllocEx() with hProcess == -1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jig script to hook VirtualAlloc() calls separatel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riggering our own memory breakpoi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ying to read modified process memory while we had an active PAGE_GUARD set on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AppDbg did sanity che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lted in read failure with ERROR_INVALID_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n't disable tracing from within single-step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 breakpoint on exception address and disable it in breakpoint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hat is 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'm going to talk about what unpacking actually 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indows Debugging API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'm using to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inAppDb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hy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can we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my unpacking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neynet binaries looked simila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ocating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riting to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unning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a known packer, at least not to 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tails of how I scripted some unpacking tas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ompress an executable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 it at runti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lf-extracting archives, like zip fil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Needs to include code to unpack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al executable file looks like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inders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bfuscates strings, URLs, import names, etc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nd time analysing unpacker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unctions and eve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tach to a process, create breakpoints, call bac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art of the standard Windows API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 need to install extra softwar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asily code your own debugg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 in Python – winappdbg nex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vent loo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ilar to Windows GUI application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ython wrapp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es ctyp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breakpoi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PI h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andle debug eve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eakpoints, exceptions, process / thread creation, module load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Your script is the debugg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 can write a debugger in Pyth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d by Mario Vila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de on sourceforge, he has a blog (breakingcode on wordpress) and a github accou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pe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Have you seen my honeynet capture rate!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neynet capturing, debugging slow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ccuracy (?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ipt generates report, more accurate than human copying information in to a repor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lies on accuracy of algorithms thoug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further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eed output in to SIEM or database help automate further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ipt multiple runs of the unpacker compare outpu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un unpacker under Cuckoo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analysts to work on other problem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utomate other analysis steps, or work on manual tas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lware wants to ru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rocessor needs correct opcod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se program won't do as it should and / or cras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ypical packed execut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Needs stub code to unpack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compresses / decrypts code so processor can run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tch it between unpacking and runn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de is unpacked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rocessor requi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rect opcod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gram will cras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tub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ads compress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s uncompress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quires write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60A-C9E4-4B4B-8779-8BA8330E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FAE-6310-4008-A5C6-77B091B9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5C5-AF7C-4372-BE2E-9C6415A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46E-9732-44DE-880B-3F9D4B7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8A5-441B-42CB-ADA8-DBFB9BF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176-0ACC-46F7-9BFC-AF36DF7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055-DAE8-416B-A93D-173CC6D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AAA-56BA-4856-8455-D916030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290-C34D-467E-A310-965C032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5D1-69C7-4EE4-9BA8-3EB909D4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599-CC40-44B7-8FDC-9E4D9B6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628-018E-4FDD-B7A6-E06B19E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D69B9-5E42-49EA-BEDC-497B94C3B2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alwaremusings.com/2013/02/26/automated-unpacking-a-behaviour-based-approach/" TargetMode="External"/><Relationship Id="rId2" Type="http://schemas.openxmlformats.org/officeDocument/2006/relationships/hyperlink" Target="http://malwaremusings.com/2014/09/16/beyond-automated-unpacking-extracting-decrypteddecompressed-memory-blocks/" TargetMode="External"/><Relationship Id="rId3" Type="http://schemas.openxmlformats.org/officeDocument/2006/relationships/hyperlink" Target="http://malwaremusings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utomated Malware Analysis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 Behavioural Approach to Automated Unpac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xcon 2015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rl Dent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to Look Fo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4000"/>
          </a:bodyPr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quests for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getting memory to unpack to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es to new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unpacking the executab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de running in new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has jumped to the unpacked executab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51600" y="227052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Stub 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25360" y="2592000"/>
            <a:ext cx="212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kernel32.dll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urn base_addr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25600" y="3240000"/>
            <a:ext cx="630000" cy="0"/>
          </a:xfrm>
          <a:custGeom>
            <a:avLst/>
            <a:gdLst/>
            <a:ahLst/>
            <a:rect l="0" t="0" r="r" b="b"/>
            <a:pathLst>
              <a:path fill="none" w="1750" h="0">
                <a:moveTo>
                  <a:pt x="0" y="0"/>
                </a:moveTo>
                <a:lnTo>
                  <a:pt x="175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28000" y="3888000"/>
            <a:ext cx="0" cy="471600"/>
          </a:xfrm>
          <a:custGeom>
            <a:avLst/>
            <a:gdLst/>
            <a:ahLst/>
            <a:rect l="0" t="0" r="r" b="b"/>
            <a:pathLst>
              <a:path fill="none" w="0" h="1310">
                <a:moveTo>
                  <a:pt x="0" y="0"/>
                </a:moveTo>
                <a:lnTo>
                  <a:pt x="0" y="131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1600" y="3600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25600" y="4752000"/>
            <a:ext cx="900000" cy="0"/>
          </a:xfrm>
          <a:custGeom>
            <a:avLst/>
            <a:gdLst/>
            <a:ahLst/>
            <a:rect l="0" t="0" r="r" b="b"/>
            <a:pathLst>
              <a:path fill="none" w="2500" h="0">
                <a:moveTo>
                  <a:pt x="0" y="0"/>
                </a:moveTo>
                <a:lnTo>
                  <a:pt x="250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1600" y="4968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n unpack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25600" y="5058720"/>
            <a:ext cx="890280" cy="1094760"/>
          </a:xfrm>
          <a:custGeom>
            <a:avLst/>
            <a:gdLst/>
            <a:ahLst/>
            <a:rect l="0" t="0" r="r" b="b"/>
            <a:pathLst>
              <a:path fill="none" w="2473" h="3041">
                <a:moveTo>
                  <a:pt x="0" y="3041"/>
                </a:moveTo>
                <a:lnTo>
                  <a:pt x="2473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Requests for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9000"/>
          </a:bodyPr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VirtualAlloc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eck flProtec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GE_EXECUTE*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wSize contains size of memory bloc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turned value is base address of memory bloc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memory breakpoi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wSiz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turn addres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6240" y="176904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Stub 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75600" y="3312000"/>
            <a:ext cx="230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kernel32.dll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urn base_addr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_VirtualAlloc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75600" y="507348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_VirtualAlloc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0240" y="2736000"/>
            <a:ext cx="495360" cy="0"/>
          </a:xfrm>
          <a:custGeom>
            <a:avLst/>
            <a:gdLst/>
            <a:ahLst/>
            <a:rect l="0" t="0" r="r" b="b"/>
            <a:pathLst>
              <a:path fill="none" w="1376" h="0">
                <a:moveTo>
                  <a:pt x="0" y="0"/>
                </a:moveTo>
                <a:lnTo>
                  <a:pt x="1376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pPr algn="ctr"/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00" y="3096000"/>
            <a:ext cx="0" cy="216000"/>
          </a:xfrm>
          <a:custGeom>
            <a:avLst/>
            <a:gdLst/>
            <a:ahLst/>
            <a:rect l="0" t="0" r="r" b="b"/>
            <a:pathLst>
              <a:path fill="none" w="0" h="600">
                <a:moveTo>
                  <a:pt x="0" y="0"/>
                </a:moveTo>
                <a:lnTo>
                  <a:pt x="0" y="6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2640" y="4842000"/>
            <a:ext cx="0" cy="216000"/>
          </a:xfrm>
          <a:custGeom>
            <a:avLst/>
            <a:gdLst/>
            <a:ahLst/>
            <a:rect l="0" t="0" r="r" b="b"/>
            <a:pathLst>
              <a:path fill="none" w="0" h="600">
                <a:moveTo>
                  <a:pt x="0" y="0"/>
                </a:moveTo>
                <a:lnTo>
                  <a:pt x="0" y="6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6960" y="3021840"/>
            <a:ext cx="2168640" cy="3131640"/>
          </a:xfrm>
          <a:custGeom>
            <a:avLst/>
            <a:gdLst/>
            <a:ahLst/>
            <a:rect l="0" t="0" r="r" b="b"/>
            <a:pathLst>
              <a:path fill="none" w="6024" h="8699">
                <a:moveTo>
                  <a:pt x="6024" y="8699"/>
                </a:moveTo>
                <a:lnTo>
                  <a:pt x="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Writes to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0000"/>
          </a:bodyPr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loop writes to allocated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iggers memory breakpoint 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typ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91200" indent="-2592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_WRITE_FAUL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2304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struc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ult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2304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stina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2880000"/>
            <a:ext cx="1674000" cy="208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20920" y="4633920"/>
            <a:ext cx="903600" cy="360000"/>
          </a:xfrm>
          <a:custGeom>
            <a:avLst/>
            <a:gdLst/>
            <a:ahLst/>
            <a:rect l="0" t="0" r="r" b="b"/>
            <a:pathLst>
              <a:path fill="none" w="2510" h="1000">
                <a:moveTo>
                  <a:pt x="0" y="0"/>
                </a:moveTo>
                <a:lnTo>
                  <a:pt x="2510" y="10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7960" y="4974840"/>
            <a:ext cx="3980160" cy="750960"/>
          </a:xfrm>
          <a:custGeom>
            <a:avLst/>
            <a:gdLst/>
            <a:ahLst/>
            <a:rect l="0" t="0" r="r" b="b"/>
            <a:pathLst>
              <a:path fill="none" w="11056" h="2086">
                <a:moveTo>
                  <a:pt x="0" y="2086"/>
                </a:moveTo>
                <a:lnTo>
                  <a:pt x="11056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3440" y="4648680"/>
            <a:ext cx="1396440" cy="245160"/>
          </a:xfrm>
          <a:custGeom>
            <a:avLst/>
            <a:gdLst/>
            <a:ahLst/>
            <a:rect l="0" t="0" r="r" b="b"/>
            <a:pathLst>
              <a:path fill="none" w="3879" h="681">
                <a:moveTo>
                  <a:pt x="0" y="681"/>
                </a:moveTo>
                <a:lnTo>
                  <a:pt x="3879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Execution from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b code calls un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mory breakpoint hi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typ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142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_EXECUTE_FAUL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257120" indent="-27936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struc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1600" y="4968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n unpack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25600" y="5058720"/>
            <a:ext cx="890280" cy="1094760"/>
          </a:xfrm>
          <a:custGeom>
            <a:avLst/>
            <a:gdLst/>
            <a:ahLst/>
            <a:rect l="0" t="0" r="r" b="b"/>
            <a:pathLst>
              <a:path fill="none" w="2473" h="3041">
                <a:moveTo>
                  <a:pt x="0" y="3041"/>
                </a:moveTo>
                <a:lnTo>
                  <a:pt x="2473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19080" y="5080320"/>
            <a:ext cx="3211920" cy="810720"/>
          </a:xfrm>
          <a:custGeom>
            <a:avLst/>
            <a:gdLst/>
            <a:ahLst/>
            <a:rect l="0" t="0" r="r" b="b"/>
            <a:pathLst>
              <a:path fill="none" w="8922" h="2252">
                <a:moveTo>
                  <a:pt x="0" y="2252"/>
                </a:moveTo>
                <a:lnTo>
                  <a:pt x="892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th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mory breakpoint handl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riginal entry poi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log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process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52680" y="3280680"/>
            <a:ext cx="2160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file</a:t>
            </a:r>
            <a:br>
              <a:rPr sz="1800"/>
            </a:b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ception address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52680" y="5040000"/>
            <a:ext cx="2160000" cy="72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 dump file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32320" y="3720240"/>
            <a:ext cx="3290040" cy="1296000"/>
          </a:xfrm>
          <a:custGeom>
            <a:avLst/>
            <a:gdLst/>
            <a:ahLst/>
            <a:rect l="0" t="0" r="r" b="b"/>
            <a:pathLst>
              <a:path fill="none" w="9139" h="3600">
                <a:moveTo>
                  <a:pt x="0" y="0"/>
                </a:moveTo>
                <a:lnTo>
                  <a:pt x="9139" y="360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2680" y="4194000"/>
            <a:ext cx="383040" cy="816120"/>
          </a:xfrm>
          <a:custGeom>
            <a:avLst/>
            <a:gdLst/>
            <a:ahLst/>
            <a:rect l="0" t="0" r="r" b="b"/>
            <a:pathLst>
              <a:path fill="none" w="1064" h="2267">
                <a:moveTo>
                  <a:pt x="0" y="0"/>
                </a:moveTo>
                <a:lnTo>
                  <a:pt x="1064" y="2267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6" idx="0"/>
            <a:endCxn id="125" idx="2"/>
          </p:cNvCxnSpPr>
          <p:nvPr/>
        </p:nvCxnSpPr>
        <p:spPr>
          <a:xfrm flipH="1" flipV="1">
            <a:off x="8427600" y="3096000"/>
            <a:ext cx="225360" cy="126396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132" name=""/>
          <p:cNvCxnSpPr>
            <a:stCxn id="125" idx="2"/>
            <a:endCxn id="129" idx="2"/>
          </p:cNvCxnSpPr>
          <p:nvPr/>
        </p:nvCxnSpPr>
        <p:spPr>
          <a:xfrm flipH="1">
            <a:off x="6077160" y="3096000"/>
            <a:ext cx="2350800" cy="192060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133" name=""/>
          <p:cNvCxnSpPr>
            <a:stCxn id="125" idx="1"/>
            <a:endCxn id="127" idx="0"/>
          </p:cNvCxnSpPr>
          <p:nvPr/>
        </p:nvCxnSpPr>
        <p:spPr>
          <a:xfrm flipH="1">
            <a:off x="6232680" y="2556000"/>
            <a:ext cx="1043280" cy="72504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... but wait, there's more...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ing the unpacking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decompression / decryption API usag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nk about logg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ing the Unpacking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able single-stepp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94880" indent="-2980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exception address to trace execu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ok for backward jum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94880" indent="-2980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 address is less than previous valu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assemble between the two address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esn't always wor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51600" y="2880000"/>
            <a:ext cx="1674000" cy="208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me: 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mp unpackm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gle_step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22000" y="4608000"/>
            <a:ext cx="903600" cy="360000"/>
          </a:xfrm>
          <a:custGeom>
            <a:avLst/>
            <a:gdLst/>
            <a:ahLst/>
            <a:rect l="0" t="0" r="r" b="b"/>
            <a:pathLst>
              <a:path fill="none" w="2510" h="1000">
                <a:moveTo>
                  <a:pt x="0" y="0"/>
                </a:moveTo>
                <a:lnTo>
                  <a:pt x="2510" y="10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3360" y="2532600"/>
            <a:ext cx="409680" cy="1274400"/>
          </a:xfrm>
          <a:custGeom>
            <a:avLst/>
            <a:gdLst/>
            <a:ahLst/>
            <a:rect l="0" t="0" r="r" b="b"/>
            <a:pathLst>
              <a:path fill="none" w="1138" h="3540">
                <a:moveTo>
                  <a:pt x="0" y="0"/>
                </a:moveTo>
                <a:lnTo>
                  <a:pt x="1138" y="354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57400" y="2532600"/>
            <a:ext cx="379800" cy="1830240"/>
          </a:xfrm>
          <a:custGeom>
            <a:avLst/>
            <a:gdLst/>
            <a:ahLst/>
            <a:rect l="0" t="0" r="r" b="b"/>
            <a:pathLst>
              <a:path fill="none" w="1055" h="5084">
                <a:moveTo>
                  <a:pt x="0" y="0"/>
                </a:moveTo>
                <a:lnTo>
                  <a:pt x="1055" y="5084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58120" y="2530800"/>
            <a:ext cx="374760" cy="2094120"/>
          </a:xfrm>
          <a:custGeom>
            <a:avLst/>
            <a:gdLst/>
            <a:ahLst/>
            <a:rect l="0" t="0" r="r" b="b"/>
            <a:pathLst>
              <a:path fill="none" w="1041" h="5817">
                <a:moveTo>
                  <a:pt x="0" y="0"/>
                </a:moveTo>
                <a:lnTo>
                  <a:pt x="1041" y="5817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61000" y="2510640"/>
            <a:ext cx="378360" cy="2388600"/>
          </a:xfrm>
          <a:custGeom>
            <a:avLst/>
            <a:gdLst/>
            <a:ahLst/>
            <a:rect l="0" t="0" r="r" b="b"/>
            <a:pathLst>
              <a:path fill="none" w="1051" h="6635">
                <a:moveTo>
                  <a:pt x="0" y="0"/>
                </a:moveTo>
                <a:lnTo>
                  <a:pt x="1051" y="6635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0000" y="4868640"/>
            <a:ext cx="459360" cy="459360"/>
          </a:xfrm>
          <a:custGeom>
            <a:avLst/>
            <a:gdLst/>
            <a:ahLst/>
            <a:rect l="0" t="0" r="r" b="b"/>
            <a:pathLst>
              <a:path fill="none" w="1276" h="1276">
                <a:moveTo>
                  <a:pt x="0" y="1276"/>
                </a:moveTo>
                <a:lnTo>
                  <a:pt x="1276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3829680"/>
            <a:ext cx="472320" cy="1498320"/>
          </a:xfrm>
          <a:custGeom>
            <a:avLst/>
            <a:gdLst/>
            <a:ahLst/>
            <a:rect l="0" t="0" r="r" b="b"/>
            <a:pathLst>
              <a:path fill="none" w="1312" h="4162">
                <a:moveTo>
                  <a:pt x="0" y="4162"/>
                </a:moveTo>
                <a:lnTo>
                  <a:pt x="131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Decompression / Decryption API Usag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RtlDecompressBuffer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ameters specify addresses and size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CryptDecryp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ameters specify address and siz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a new proc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_SUSPEND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ually innocent looking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verwrite the process'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sume the proc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51600" y="1767600"/>
            <a:ext cx="2664000" cy="154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Malicious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Process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51600" y="4968360"/>
            <a:ext cx="266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dded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Z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51600" y="3315600"/>
            <a:ext cx="2664000" cy="11484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ProcessMemory(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...,lpBaseAddres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lpBuffer,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5600" y="3312000"/>
            <a:ext cx="131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orer.ex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51600" y="4464000"/>
            <a:ext cx="2664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meThread(hThread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7360" y="4014360"/>
            <a:ext cx="299520" cy="2193120"/>
          </a:xfrm>
          <a:custGeom>
            <a:avLst/>
            <a:gdLst/>
            <a:ahLst/>
            <a:rect l="0" t="0" r="r" b="b"/>
            <a:pathLst>
              <a:path fill="none" w="832" h="6092">
                <a:moveTo>
                  <a:pt x="0" y="6092"/>
                </a:moveTo>
                <a:lnTo>
                  <a:pt x="83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37520" y="3315600"/>
            <a:ext cx="927720" cy="451440"/>
          </a:xfrm>
          <a:custGeom>
            <a:avLst/>
            <a:gdLst/>
            <a:ahLst/>
            <a:rect l="0" t="0" r="r" b="b"/>
            <a:pathLst>
              <a:path fill="none" w="2577" h="1254">
                <a:moveTo>
                  <a:pt x="0" y="1254"/>
                </a:moveTo>
                <a:lnTo>
                  <a:pt x="2577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6880" y="4104000"/>
            <a:ext cx="756720" cy="510840"/>
          </a:xfrm>
          <a:custGeom>
            <a:avLst/>
            <a:gdLst/>
            <a:ahLst/>
            <a:rect l="0" t="0" r="r" b="b"/>
            <a:pathLst>
              <a:path fill="none" w="2102" h="1419">
                <a:moveTo>
                  <a:pt x="0" y="1419"/>
                </a:moveTo>
                <a:lnTo>
                  <a:pt x="210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0000"/>
          </a:bodyPr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CreateProcess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eck dwCreationFlag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_SUSPEND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WriteProcessMemory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memory buffer to a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ResumeThread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log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5600" y="2026800"/>
            <a:ext cx="32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_WriteProcessMemory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5600" y="4968000"/>
            <a:ext cx="131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ump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51600" y="4968360"/>
            <a:ext cx="266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dded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Z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3104640"/>
            <a:ext cx="2312640" cy="3070080"/>
          </a:xfrm>
          <a:custGeom>
            <a:avLst/>
            <a:gdLst/>
            <a:ahLst/>
            <a:rect l="0" t="0" r="r" b="b"/>
            <a:pathLst>
              <a:path fill="none" w="6424" h="8528">
                <a:moveTo>
                  <a:pt x="0" y="8528"/>
                </a:moveTo>
                <a:lnTo>
                  <a:pt x="6424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20800" y="3106800"/>
            <a:ext cx="0" cy="1861200"/>
          </a:xfrm>
          <a:custGeom>
            <a:avLst/>
            <a:gdLst/>
            <a:ahLst/>
            <a:rect l="0" t="0" r="r" b="b"/>
            <a:pathLst>
              <a:path fill="none" w="0" h="5170">
                <a:moveTo>
                  <a:pt x="0" y="0"/>
                </a:moveTo>
                <a:lnTo>
                  <a:pt x="0" y="5170"/>
                </a:lnTo>
              </a:path>
            </a:pathLst>
          </a:custGeom>
          <a:ln w="0">
            <a:solidFill>
              <a:srgbClr val="ff0000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.abou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ware analysis hobbyis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arted full-time wor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laying catch-u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can I do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nk About Logg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 read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r can work out what happen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chine read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ther software can work out what happen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nables further automa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rtable date forma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e line per eve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Else Can We Do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fil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registry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network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0">
              <a:spcBef>
                <a:spcPts val="1417"/>
              </a:spcBef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omatically generate an IDA Pro scrip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ke it a bit more professional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ress of VirtualAllocEx() calls was within kernel32.dll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iggering our own memory breakpoi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n't disable tracing from within single-step handl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Demonstrations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c9c75be754eddfb7673a5bffcadd042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tlDecompressBuffer()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cess injec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4456a22b5c87ea6ad107023ce6c75d5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0677f88a7eaedaa3ca13a5926465fc50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 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lls CryptDecrypt()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fo_61937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re recen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ts of exception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4360" y="176940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endParaRPr b="0" lang="en-AU" sz="3200" spc="-1" strike="noStrike">
              <a:solidFill>
                <a:srgbClr val="ffffff"/>
              </a:solidFill>
              <a:latin typeface="Arial"/>
              <a:ea typeface="Droid Sans Fallb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 rule to make target 'sense'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1"/>
              </a:rPr>
              <a:t>http://malwaremusings.com/2013/02/26/automated-unpacking-a-behaviour-based-approach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2"/>
              </a:rPr>
              <a:t>http://malwaremusings.com/2014/09/16/beyond-automated-unpacking-extracting-decrypteddecompressed-memory-blocks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ther works, musings, and rambling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3"/>
              </a:rPr>
              <a:t>http://malwaremusings.com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ttp://github.com/malwaremusings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920000" y="504252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.abou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'packing'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dows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AppDb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can we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y unpacking scrip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pressing / encrypting an execut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ed at runtim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volves stub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nders analysi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1600" y="2271600"/>
            <a:ext cx="442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51600" y="1767600"/>
            <a:ext cx="4428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 Header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51600" y="3279600"/>
            <a:ext cx="4428000" cy="287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encrypted 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dows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nctions and eve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rt of the standard Windows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asily code your own debugg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vent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AppDb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ython wrapper for the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breakpoi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PI hoo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ndle debug eve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r script is the debugg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d by Mario Vila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ttp://winappdbg.sourceforge.net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Automate Unpac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ve you seen my honeynet capture rate!?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curacy (?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able further auto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rees analysts to work on other problem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Can We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ware wants to ru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or needs correct opcod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ypical packed execut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eds stub code to unpack i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tch it between unpacking and runn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51600" y="2271600"/>
            <a:ext cx="298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1600" y="1767600"/>
            <a:ext cx="2988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 Header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51600" y="3279600"/>
            <a:ext cx="2988000" cy="107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en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080" y="4720680"/>
            <a:ext cx="2988000" cy="143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compressed / de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3"/>
            <a:endCxn id="71" idx="3"/>
          </p:cNvCxnSpPr>
          <p:nvPr/>
        </p:nvCxnSpPr>
        <p:spPr>
          <a:xfrm>
            <a:off x="8139600" y="2775600"/>
            <a:ext cx="6840" cy="2661840"/>
          </a:xfrm>
          <a:prstGeom prst="bentConnector3">
            <a:avLst>
              <a:gd name="adj1" fmla="val 2883333"/>
            </a:avLst>
          </a:prstGeom>
          <a:ln w="0">
            <a:solidFill>
              <a:srgbClr val="ffffff"/>
            </a:solidFill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8128800" y="5437080"/>
            <a:ext cx="1443600" cy="360"/>
          </a:xfrm>
          <a:custGeom>
            <a:avLst/>
            <a:gdLst/>
            <a:ahLst/>
            <a:rect l="0" t="0" r="r" b="b"/>
            <a:pathLst>
              <a:path fill="none" w="4010" h="1">
                <a:moveTo>
                  <a:pt x="0" y="0"/>
                </a:moveTo>
                <a:lnTo>
                  <a:pt x="4010" y="1"/>
                </a:lnTo>
              </a:path>
            </a:pathLst>
          </a:custGeom>
          <a:ln w="3600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txBody>
          <a:bodyPr lIns="108000" rIns="108000" tIns="-62640" bIns="-6444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reakpoint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nning 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76796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3000"/>
          </a:bodyPr>
          <a:p>
            <a:pPr marL="401760" indent="-30132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or requir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rect opcode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ecutable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30132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b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s compressed data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s uncompressed data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s writeable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51600" y="2270520"/>
            <a:ext cx="442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1600" y="435852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compressed /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8" idx="0"/>
            <a:endCxn id="77" idx="2"/>
          </p:cNvCxnSpPr>
          <p:nvPr/>
        </p:nvCxnSpPr>
        <p:spPr>
          <a:xfrm flipV="1">
            <a:off x="6078600" y="3278520"/>
            <a:ext cx="1287360" cy="108036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>
            <a:off x="7365600" y="3278520"/>
            <a:ext cx="1287360" cy="108144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0:27:07Z</dcterms:created>
  <dc:creator/>
  <dc:description/>
  <dc:language>en-US</dc:language>
  <cp:lastModifiedBy/>
  <dcterms:modified xsi:type="dcterms:W3CDTF">2015-10-24T08:28:40Z</dcterms:modified>
  <cp:revision>134</cp:revision>
  <dc:subject/>
  <dc:title/>
</cp:coreProperties>
</file>